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27DF-A1BC-4C3D-A364-F2E525EA2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0100-CB50-412B-AE61-2FAD8D941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1B66-45B2-4AF9-8EF2-D1EDCCC0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28A-FB91-4978-B2F9-20B22967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3F54-FCCC-4579-BC1A-47AA0DB9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E4B1-7938-4C22-9022-90BFB685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E8B1-78A9-4C25-B912-9E420887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0AEE-A15F-40C2-BFE4-D87DA7F8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0BFC-F625-42E2-AFD7-13AC4773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497-4DC5-4BF9-804D-033D25E3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0A7-B679-440C-9E64-33A9C0CC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E2B5-AF9E-45F9-B537-0F1CFB33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AC93-F53E-4124-87F1-DB632CAE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574-BE74-494D-BCF6-D1E2FC68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19E6-F2A8-4766-9297-30D49B3C7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iviana Peral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90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Buenos días! Mi nombre es Viviana. Yo vivo en Nueva York. Tengo catorce años. Tengo un hermano meno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14:39:58Z</dcterms:created>
  <dc:creator>FriscoISD</dc:creator>
  <dc:description/>
  <dc:language>en-US</dc:language>
  <cp:lastModifiedBy>NYCDOE</cp:lastModifiedBy>
  <dcterms:modified xsi:type="dcterms:W3CDTF">2012-11-30T14:52:23Z</dcterms:modified>
  <cp:revision>101</cp:revision>
  <dc:subject/>
  <dc:title>Profile</dc:title>
</cp:coreProperties>
</file>